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8EF-E9F0-4274-9547-ECAA118E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13D-7DEF-474A-B841-F7DDA3D6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DE5-414C-49AE-A576-ED310212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F8D-62A0-49C9-BDD8-B0CDA558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6AA-6FDE-4CDB-8B5A-F7965B70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B38-AE5F-4EB8-97DB-5D07BEC6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2F7-74FE-410E-96C0-EB9C4699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B45-BCFC-4A57-8914-5F8F68A1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04D-3048-4F24-AF54-E215B709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E6E-8ABD-492B-AD79-5EE3F967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CAD-1E65-4F1F-9AC3-26CF2FB9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FA9-4B67-4F21-BB48-253D8929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1EC5-D278-4CEC-B1A1-96F418C3F6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Arial"/>
              </a:rPr>
              <a:t>Epidemiologia dei tumori in Campania</a:t>
            </a:r>
            <a:br>
              <a:rPr sz="4400"/>
            </a:br>
            <a:br>
              <a:rPr sz="2400"/>
            </a:b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i dati del registro tumori dell´ASL Napoli 4 a confronto con la Campania e l´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tt. Pio Russo Kra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p. Centro di Documentazione e Ricerca sull´Ambiente e la Sa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L Napoli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8588160" cy="563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6680" y="2286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152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Mortalità per tutti i tum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' PER TUMORE DELL'UTERO,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624852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90440" y="739800"/>
          <a:ext cx="8915400" cy="55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739800"/>
                    <a:ext cx="89154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7010280" y="48769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Agro Nolano:Ds 70  Ds 73  Ds 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' PER TUMORE DELLA MAMMELLA FEMMINE,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624852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620640"/>
          <a:ext cx="864864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864864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858000" y="48769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Agro Nolano:Ds 70  Ds 73  Ds 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' PER TUMORE DEL COLON FEMMINE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624852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66760" y="838080"/>
          <a:ext cx="87631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838080"/>
                    <a:ext cx="8763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7162920" y="4724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Agro Nolano:Ds 70  Ds 73  Ds 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' PER TUMORE DEL COLON MASCHI,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624852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838080"/>
          <a:ext cx="86868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686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0" y="4724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Agro Nolano:Ds 70  Ds 73  Ds 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‘ PER TUMORE DEL FEGATO FEMMINE,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624852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934920"/>
          <a:ext cx="8458200" cy="523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34920"/>
                    <a:ext cx="845820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705720" y="487692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Agro Nolano:Ds 70  Ds 73  Ds 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' PER TUMORE DEL FEGATO MASCHI,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24852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838080"/>
          <a:ext cx="853416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534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781680" y="43434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Agro Nolano:Ds 70  Ds 73  Ds 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308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' PER TUMORE TRACHEA, BRONCHI, POLMONE FEMMINE,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624852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   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914400"/>
          <a:ext cx="8610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610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705720" y="4800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Agro Nolano:Ds 70  Ds 73  Ds 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‘ PER TUMORE DELLA TRACHEA, BRONCHI, POLMONE MASCHI,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624852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066680"/>
          <a:ext cx="868680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629400" y="4724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Agro Nolano:Ds 70  Ds 73  Ds 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200" spc="-1" strike="noStrike">
                <a:solidFill>
                  <a:srgbClr val="ffff00"/>
                </a:solidFill>
                <a:latin typeface="Arial"/>
              </a:rPr>
              <a:t>Conclusioni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00"/>
                </a:solidFill>
                <a:latin typeface="Arial"/>
              </a:rPr>
              <a:t>La mortalità in Campania è in diminu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00"/>
                </a:solidFill>
                <a:latin typeface="Arial"/>
              </a:rPr>
              <a:t>La mortalità per tumori in Campania è lievemente più alta che in Italia per i maschi e lievemente più bassa per le femm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00"/>
                </a:solidFill>
                <a:latin typeface="Arial"/>
              </a:rPr>
              <a:t>La mortalità è piú alta nel napoletano e nel casertano rispetto alle altre zone della reg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00"/>
                </a:solidFill>
                <a:latin typeface="Arial"/>
              </a:rPr>
              <a:t>Nel napoletano e nel casertano c`è maggiore degrado ambientale (inq. aria, rifiuti, ecc.), vasti strati di popolazione con condizioni sociali scadenti (extracomunitari, senzatetto, basso reddito, superaffollamento, famiglie monoparentali ecc.), maggiore % di fumatori e alta incidenza di epatite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00"/>
                </a:solidFill>
                <a:latin typeface="Arial"/>
              </a:rPr>
              <a:t>L´incidenza di tumore è più bassa in Campania che in Italia, ma questo dipende anche dal fatto che alcuni tumori (prostata, mammella, utero) sono meglio diagnosticati nelle regioni del Nord e Centro Ita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00"/>
                </a:solidFill>
                <a:latin typeface="Arial"/>
              </a:rPr>
              <a:t>La diagnosi e cura dei tumori in Campania non è all´altezza delle regioni del Nord e Centro Ita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' GENERALE FEMMINE,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3962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617220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4600" y="914400"/>
          <a:ext cx="89694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914400"/>
                    <a:ext cx="89694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162920" y="40384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Agro Nolano :Ds 70  Ds 73  Ds 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' GENERALE MASCHI,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3962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609588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838080"/>
          <a:ext cx="8610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610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Registro Tumori della Regione Campania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Confronto Registro Campano / Pool Registri Italiani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Mortalità anni 1997 / 2002</a:t>
            </a:r>
            <a:br>
              <a:rPr sz="2400"/>
            </a:b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Mas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Registro Tumori della Regione Campania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Confronto Registro Campano / Pool Registri Italiani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Mortalità anni 1997 / 2002</a:t>
            </a:r>
            <a:br>
              <a:rPr sz="2400"/>
            </a:b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Fem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‘ PER TUMORI FEMMINE,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24852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914400"/>
          <a:ext cx="8610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610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781680" y="41148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Agro Nolano:Ds 70  Ds 73  Ds 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MORTALITA' PER TUMORE MASCHI, TASSI STANDARDIZZATI PER 100.000 ABI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624852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Servizio Epidemiologia e Prevenzion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mic Sans MS"/>
              </a:rPr>
              <a:t>Raffaele Palomb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685800"/>
          <a:ext cx="89154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9154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858000" y="41148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Agro Nolano :Ds 70  Ds 73  Ds 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Registro Tumori della Regione Campania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Confronto Registro Campano / Pool Registri Italiani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Incidenza anni 1997 / 2002</a:t>
            </a:r>
            <a:br>
              <a:rPr sz="2400"/>
            </a:b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Mas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Registro Tumori della Regione Campania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Confronto Registro Campano / Pool Registri Italiani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Incidenza anni 1997 / 2002</a:t>
            </a:r>
            <a:br>
              <a:rPr sz="2400"/>
            </a:b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Fem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2:52:16Z</dcterms:created>
  <dc:creator>chiara russo krauss</dc:creator>
  <dc:description/>
  <dc:language>en-US</dc:language>
  <cp:lastModifiedBy>chiara russo krauss</cp:lastModifiedBy>
  <dcterms:modified xsi:type="dcterms:W3CDTF">2008-04-30T15:41:38Z</dcterms:modified>
  <cp:revision>3</cp:revision>
  <dc:subject/>
  <dc:title>Epidemiologia dei tumori in Campania  i dati del registro tumori dell´ASL Napoli 4 a confronto con la Campania e l´Italia</dc:title>
</cp:coreProperties>
</file>